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drumroll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D6B-AC35-44DF-A260-33529BD9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140-0167-47DC-8C32-668D05C6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FB0-5178-4FCB-82FB-77644E41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4F4-567A-4F52-947B-13960D17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9488-3959-422D-A0D3-815DBBB0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13AB-B07B-4CC4-ADCE-D707103A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DA86-D672-4A08-98AA-27D89906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C8F3-F3B7-4DF0-99BB-E584E411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5167-D328-41A2-910F-E2288DDA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4223-E49E-4E81-8DB3-9C6388CC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BE85-2A1E-49EF-87B1-CC0A50C5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DA1-8682-4CE0-9F82-93AF4BBE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2B29-2637-418D-B696-D3DB5586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A27F-3B25-4203-9982-124E8F0E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5466-1078-4528-8A00-7FA7824E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01AB-7013-4C31-920A-F5129EC6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FB20-98A4-42D9-AAD5-862CF791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2C87-40BB-4068-BDE6-42A8AD3B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CE4C-F4B3-4B43-A147-D87ECA9F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BFC-F132-4574-901F-B31591E4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B47-5ED1-4D2D-ABE0-DF9F02F7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D89-437E-487C-91F8-0C586B69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2E7-030F-4D06-974A-2FA8F6A4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C152-6338-4585-B5F3-4390E208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08CA-7324-4F97-81C7-BBB90FED04C0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2EDA-618E-44E8-936D-9CF5C3CE29C0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ahoma"/>
              </a:rPr>
              <a:t>Using the Flashcard Templa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25142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py the presentation to your hard dr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two sets of templa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ides #3 &amp; 4 are for identifying te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lides #5 &amp; 6 are for learning defin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n the slides using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lide sor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copy either set of slides for each term/definition you are going to construc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 to each slide and substitute the text with the proper terms or defini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ete this slide (slide #1) after you are d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ve the f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FLASH CARD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95480" y="4419720"/>
            <a:ext cx="3810240" cy="223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381880" cy="1752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ype the definition of the ter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711840" y="6172200"/>
            <a:ext cx="20782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4600440"/>
            <a:ext cx="2022480" cy="225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5867280" cy="1143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Type the correct term or answ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3504960"/>
            <a:ext cx="6629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epeat the same definition you typed in the previous sl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6711840" y="6172200"/>
            <a:ext cx="20782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181200" y="6172200"/>
            <a:ext cx="26344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81280" y="4600440"/>
            <a:ext cx="2022480" cy="2257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ype the ter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010280" cy="21333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Type the correct definition for the term below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4648320"/>
            <a:ext cx="6629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peat the term from the previous sl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6181200" y="6172200"/>
            <a:ext cx="26344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45:51Z</dcterms:created>
  <dc:creator>Dianne Jones</dc:creator>
  <dc:description/>
  <dc:language>en-US</dc:language>
  <cp:lastModifiedBy>jonesd</cp:lastModifiedBy>
  <dcterms:modified xsi:type="dcterms:W3CDTF">2002-06-26T00:14:42Z</dcterms:modified>
  <cp:revision>16</cp:revision>
  <dc:subject/>
  <dc:title>FLASH CARDS</dc:title>
</cp:coreProperties>
</file>